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FBF-68B0-4783-917B-6F3CB1F1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445-2B4F-4519-89EC-AE05284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203-A04F-4D68-8B10-DD79B38C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38A-912D-4BE5-A81C-8CE543E2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8E21D-C630-41C1-B0F3-AAB38F1B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466A-E362-483B-B530-67C23C6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5B9A1-9783-4DD7-8C19-A97C504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C8808-6619-4ED6-B555-ABDF5C73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2485D-5D40-4BB0-B86C-94408D63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14BD-970C-48DA-95DE-218F0AB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A5249-B869-42D3-A2A7-E5DA0DA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8B9-564D-403F-8250-7EDD4104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D4BB-1F68-4ACB-B292-914D68A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6C64-87E3-4144-9D20-D04E1E7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59AC-630E-4484-B508-2A8AB40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50A6-DB86-4C8F-807F-8005A17A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2F55A-425F-4B18-A17E-1615C321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5B32-74C4-45B1-94F1-47CCB279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EFAB-90D6-44E2-AC0D-52E29B5A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0790-16EE-4D63-B25A-7586436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51FE-99BE-4CAB-9E28-68B6A4E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B00E-7E11-4702-ACF8-D475CDB0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C0C-7F3A-4D33-8101-DEA83A69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CD0D-98AC-4FE4-9837-4ECDACAB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7EA2-7F8E-440D-83EA-4F5BF3C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94AE-4831-4407-93A1-5656E01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5D08-EAAE-4E64-A886-A338D029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88B5-7693-46B9-BF30-9354245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49DC-7DBA-420F-AE3A-22940177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CE26-6508-4611-8D67-53D79BC8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528A-4D98-445C-B584-DE4EB616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FC72-9F44-4BA8-9AD9-A1A8341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7402-F716-4D07-AD56-44D5A9C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B16-8598-40F5-941A-7A9507CE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5CE5-A0D5-497F-A765-A77DD37C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C6F7-74D9-41F2-B2A1-179FD9ED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E983-0D23-43AE-8ACC-89000B0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77A1-F49F-45DE-A206-570EF5A5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9F49-809E-42AD-96AE-FA97507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50E6-3D46-4A1A-93B4-95716DA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856D-A835-491A-A935-D61303F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E1BD-BC91-4007-A5BF-92C3369A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30C1-F471-4884-8FB4-66AD1951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FEC2-DE54-45E2-BCCF-CF7F6384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559-A678-4355-B2D7-16F03D3E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8F53-D265-4EFA-990F-D89FE52C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9F857-1157-4CC9-91F6-A0427BA5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3775-E256-4A6F-9559-FC9B3D1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6595-1B69-499B-BC46-F928779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A614-C434-4011-85A8-CF5F1FB3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33A48-FF15-4F5E-9782-3238949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C8285-BF17-4E7C-B5D6-270A505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C99BD-0A6A-4D43-A442-02275B9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07CB4-7650-43A1-9CCA-EB2DB9CD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C2293-ECB2-44D3-BC56-C96725BF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D35-1E14-4AE4-A710-4EEB02AE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4F1B-5C0F-4F30-BD43-8AD259DF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3BE0-421F-4D3A-9B64-A656834D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7530-B94E-4F95-9022-DE253980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119C-E61E-4BF4-B6B4-12D37DD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2475-CD9D-4203-A461-E9709A7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EC71-7BAD-4004-A842-D0C4F907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B2C8-D920-4D79-8BD9-D818B48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D11B3-66FA-4C93-A252-57DB9FA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B555-5D0B-469B-BF72-2A8BAB0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AF38-CC64-481E-895A-0A477A0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B43-DB88-4B7A-9C1A-485B420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9C8D-7917-4645-AFF7-361E944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BF97-E661-4A75-A06F-29F62325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372D3-AFC5-4AA0-B6C3-5DA49116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83D9E-6289-4A52-8384-60DF896A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7C4AE-2273-4354-952B-F44BCF6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2C84-4EA5-485C-A3A0-DDE68B4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AA34B-AC06-48F1-9B6B-5C4801C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6709-BE22-46E5-8326-A7788B2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E4488-4957-434E-8962-BBAD411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F75BC-4389-40E9-AB58-3C4E5246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B13-0A83-4ED5-A9B9-C9324E7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EFAEA-D1D7-4859-82B0-2DCD03B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8F1A-58D3-445E-9F92-5976998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66F0-BB55-44C4-8D91-569E30F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075F-163E-4279-B5B4-545B62B3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7B5B-325C-4ECE-8AE0-8DC7F81E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C568-B794-475F-8394-C45F9780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9ACD6-49E3-4DF8-A832-F560611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1FFC-2446-4566-B620-8BE42F6A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7F2A5-AFF7-452C-BB05-A3F8F7D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22FA-9B67-4D3E-B7E9-B5D6623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395-3D9A-4617-B393-53031F3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A477-469D-4E82-9B87-14E5D5B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4109-7E86-4388-B8E8-6014658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639B6-1916-4333-BE4F-FFCB021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FACA6-2BD8-47FC-A7B5-A7B36AF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752B-58A8-4C1F-AAF9-A594144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459D-0DF3-45B2-A2C7-55674EE0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EEBA0-D5A5-46E6-AE81-A70835C4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3C7-EC11-48B5-BDC1-FFD515C49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5316-5763-4ECE-83B9-A74770AA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A13-8451-4782-9DDE-DFA48E4DB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2D24-8B82-45DD-BE5C-B38C08864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7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6998-28BA-4C55-8078-53158D263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5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5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7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C90-ECA2-4052-BBAC-098FDDD039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556B-B8D9-4CEF-B53B-5C4EDC0B47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726-A923-4117-810F-733F9DC14B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6fa9b7"/>
                </a:solidFill>
                <a:latin typeface="Tahoma"/>
              </a:rPr>
              <a:t>Mi gran viaje a la Argen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: Alec Da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rimer 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600"/>
                </a:solidFill>
                <a:latin typeface="Tahoma"/>
              </a:rPr>
              <a:t>Mi gran ho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754380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rida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lleg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la hotel en Puerto Iguazu, Argentina. Mi hotel es muy grande. El nombre de mi hotel es Centara Grand Beach Resort Phuket. En el hotel hay muchas actividades, tiene una playa, y tiene una piscina muy bonita. En Argentina, hace buen tiempo. Hace calor y el sol b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il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Fui con mi padre. Yo trajo los gafas de sol, los pantalones, una camisa, sandalias,  un sombrero, y una tabla hawaian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balneario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24382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838080" y="3429000"/>
            <a:ext cx="7620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a, abu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fui a la playa. Yo fui surfing. Las olas son muy grande, y es muy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ificil para montar. Yo fui buceo, tambien! Cuando yo fui buceo, yo vi muy pescado y cangrejo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s muy interesante! El mar hace calor, pero no hace calor siempre. Algunos hace muy frio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Tien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410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 nuev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ad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365760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yo fui a las tiendas de surfing. Yo comp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una tabla hawaiana. Yo compro cera para mi surfboard, tambien. En total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 quinientos dólares. Yo no fui surfing porque el tiempo esta mal, pero yo estoy contento porque yo comp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una table hawaian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pero verte pronto, Alec D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36194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Cuatro d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Arial"/>
              </a:rPr>
              <a:t>í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la, Hann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 fui al restaurante muy bueno.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a ensalada, un pescado, y una soda. La comida es muy buena. Pero, el servicio es mal. Yo l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 traje porque el restaurante es muy elegante. Pag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600 pesos. Pero yo tengo muy pesos para mi viaje porque es para un emergenci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 todo mi afec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ec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267080" y="44197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Final 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o, Br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2438280"/>
            <a:ext cx="381024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dia fue un dia bueno. Yo fui a una excurs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 a pasar hora. Yo to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t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 Yo tom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fotos de un cocodrilo, muchos peces, y seals. Los boques son hermoso. Pero, el agua es muy mal. Es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ucio. Pero yo no nad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é en el agua, yo v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rededor d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o había un buen momento, y yo feliz yo fu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sta pronto, Alec Daly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4381560" y="2133720"/>
            <a:ext cx="47624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4:05Z</dcterms:created>
  <dc:creator>dalyale</dc:creator>
  <dc:description/>
  <dc:language>en-US</dc:language>
  <cp:lastModifiedBy>dalyale</cp:lastModifiedBy>
  <dcterms:modified xsi:type="dcterms:W3CDTF">2011-11-30T16:49:24Z</dcterms:modified>
  <cp:revision>16</cp:revision>
  <dc:subject/>
  <dc:title>Mi gran viaje a la Argentina</dc:title>
</cp:coreProperties>
</file>